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drumroll.wav" ContentType="audio/x-wav"/>
  <Override PartName="/ppt/media/applause.wav" ContentType="audio/x-wav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3DEC-48A0-4AED-9BD1-D380680D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5850-2B99-4F68-8D2D-E42F4C0D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C3F-5F3B-45BA-B35C-136FBBCB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7BD-C3C1-465B-B60E-F3BF42B0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3504-9969-45E1-9804-0FFBB866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475F-EA2C-4668-9276-1742DE70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8C2D-90EB-47D4-8151-B0D60BBD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F357-66A1-4F25-B22E-4CEA78D8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E2F1-532D-48B3-B684-25D63D4F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0682-3C1A-45E5-B46E-1DB3B11B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FBA7-BEA6-4F5B-B788-36440260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6562-3747-493C-A3B6-2848C12C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C970-F53F-41F6-89C7-08F98A46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BCC8-F599-451D-ACD5-B11FC8EA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776E-6DE3-4454-859A-074EA55A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5C73-329B-4D4E-8D46-CCF633F7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0802-26D5-4443-8CCA-B506266A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919-7889-474C-8E97-0087D017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6BB4-E657-4696-82B1-BF5B00D8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D3A-8EDF-4D14-90A6-A27735AA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3EE-54C6-4A3A-B4F7-8D1F54E1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784-6FCF-49FF-ACA8-EDC433B6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488-2C9E-4FE5-8837-0D1D5979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A11-E29B-437B-ADD4-76514BF8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53E9-5DAE-48D1-AA04-F3A1DFBF2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8612-7028-4E3E-9D61-79C1C3547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73152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Midnight Ride of Paul Rev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192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2 Week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23" descr="THE MIDNIGHT RIDE of PAUL REVERE"/>
          <p:cNvPicPr/>
          <p:nvPr/>
        </p:nvPicPr>
        <p:blipFill>
          <a:blip r:embed="rId1"/>
          <a:stretch/>
        </p:blipFill>
        <p:spPr>
          <a:xfrm>
            <a:off x="4952880" y="152280"/>
            <a:ext cx="38484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oom where we had to sit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mb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ery o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loom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819520" y="4419720"/>
            <a:ext cx="3124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oy had dreamed of having his own trus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te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d-tempe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-spirited hor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438280" y="4343400"/>
            <a:ext cx="39625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one knew what h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ould be after he left ho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tin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048120" y="3886200"/>
            <a:ext cx="2438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cientist couldn’t wait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agnif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is specimen under a microscop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ke larg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ix up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286000" y="3657600"/>
            <a:ext cx="4038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aptain kept hoping to see at least a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limm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ggy spo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m ligh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200400" y="4419720"/>
            <a:ext cx="27432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eam needed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earl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eader to get them throug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etiti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76720" y="3657600"/>
            <a:ext cx="2743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m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ge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very time we visit her sister’s hou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anish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y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200400" y="4419720"/>
            <a:ext cx="27432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85800" y="1295280"/>
            <a:ext cx="3124080" cy="762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at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04920" y="2286000"/>
            <a:ext cx="350496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earles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609480" y="3429000"/>
            <a:ext cx="3505320" cy="762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limme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04920" y="4495680"/>
            <a:ext cx="335268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inger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4876920" y="1143000"/>
            <a:ext cx="281916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te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4419720" y="2971800"/>
            <a:ext cx="373356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agnifi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5029200" y="4419720"/>
            <a:ext cx="312408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ombe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00040" y="13716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horse, especially a riding hor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886200" y="380880"/>
            <a:ext cx="312408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te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80880" y="228600"/>
            <a:ext cx="2895840" cy="4800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rl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lim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gnif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b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5" descr="MPj04065090000[1]"/>
          <p:cNvPicPr/>
          <p:nvPr/>
        </p:nvPicPr>
        <p:blipFill>
          <a:blip r:embed="rId1"/>
          <a:stretch/>
        </p:blipFill>
        <p:spPr>
          <a:xfrm>
            <a:off x="3809880" y="403848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580920" y="1447920"/>
            <a:ext cx="4876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tays on; goes slowly, as if unwilling to leav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657600" y="380880"/>
            <a:ext cx="380988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inger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80880" y="228600"/>
            <a:ext cx="2895840" cy="4800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rl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lim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gnif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b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MCj03590330000[1]"/>
          <p:cNvPicPr/>
          <p:nvPr/>
        </p:nvPicPr>
        <p:blipFill>
          <a:blip r:embed="rId1"/>
          <a:stretch/>
        </p:blipFill>
        <p:spPr>
          <a:xfrm>
            <a:off x="4191120" y="4267080"/>
            <a:ext cx="2133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580920" y="18288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at becomes of someone or something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962520" y="457200"/>
            <a:ext cx="396216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at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380880" y="228600"/>
            <a:ext cx="2895840" cy="4800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rl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lim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gnif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b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7" descr="MCj02404190000[1]"/>
          <p:cNvPicPr/>
          <p:nvPr/>
        </p:nvPicPr>
        <p:blipFill>
          <a:blip r:embed="rId1"/>
          <a:stretch/>
        </p:blipFill>
        <p:spPr>
          <a:xfrm>
            <a:off x="2133720" y="5257800"/>
            <a:ext cx="18507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9880" y="175212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 faint, unsteady ligh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962520" y="304920"/>
            <a:ext cx="3962160" cy="1295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glimme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80880" y="228600"/>
            <a:ext cx="2895840" cy="4800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rl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lim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gnif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b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17" descr="MPj04386850000[1]"/>
          <p:cNvPicPr/>
          <p:nvPr/>
        </p:nvPicPr>
        <p:blipFill>
          <a:blip r:embed="rId1"/>
          <a:stretch/>
        </p:blipFill>
        <p:spPr>
          <a:xfrm>
            <a:off x="228600" y="152280"/>
            <a:ext cx="33116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having deep shadows; dark; gloom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809880" y="533520"/>
            <a:ext cx="381024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ombe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380880" y="228600"/>
            <a:ext cx="2895840" cy="4800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rl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lim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gnif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b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5" descr="MPj04022010000[1]"/>
          <p:cNvPicPr/>
          <p:nvPr/>
        </p:nvPicPr>
        <p:blipFill>
          <a:blip r:embed="rId1"/>
          <a:stretch/>
        </p:blipFill>
        <p:spPr>
          <a:xfrm>
            <a:off x="0" y="762120"/>
            <a:ext cx="3411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used something to look larger than it actually i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657600" y="457200"/>
            <a:ext cx="457200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agnifi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380880" y="228600"/>
            <a:ext cx="2895840" cy="4800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rl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lim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gnif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b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10" descr="MPj04393430000[1]"/>
          <p:cNvPicPr/>
          <p:nvPr/>
        </p:nvPicPr>
        <p:blipFill>
          <a:blip r:embed="rId1"/>
          <a:stretch/>
        </p:blipFill>
        <p:spPr>
          <a:xfrm>
            <a:off x="533520" y="19051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without fear; afraid of nothing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4191120" y="380880"/>
            <a:ext cx="373356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earles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80880" y="228600"/>
            <a:ext cx="2895840" cy="4800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rl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lim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gnif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b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5" descr="MCj03588130000[1]"/>
          <p:cNvPicPr/>
          <p:nvPr/>
        </p:nvPicPr>
        <p:blipFill>
          <a:blip r:embed="rId1"/>
          <a:stretch/>
        </p:blipFill>
        <p:spPr>
          <a:xfrm>
            <a:off x="2971800" y="4724280"/>
            <a:ext cx="154476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Lynne M. Gorman</cp:lastModifiedBy>
  <dcterms:modified xsi:type="dcterms:W3CDTF">2012-02-27T00:24:35Z</dcterms:modified>
  <cp:revision>59</cp:revision>
  <dc:subject/>
  <dc:title>Frindle Vocabulary Words</dc:title>
</cp:coreProperties>
</file>